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1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BE2-F642-4315-AF2F-69D1063A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935-EB35-4D61-B554-FF9C8A68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A55-B4CC-4613-95B2-19FE361C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DC6-6B46-4504-A9CD-FD78668F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67D4-FA48-4760-BEF6-E0EE78A6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96BC-82B0-4EA2-BEB2-42D98401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4F12-B241-4D2A-A0E6-60EFB80C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5DFC-2942-4240-9AF9-7E611A2C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5A40-A85C-4200-A207-609AC24D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0A87-6CBD-48BA-903B-6B22908D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AECF-B4C9-429A-840C-1F4A7CBF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E34-3212-447A-AB0B-B91847CF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E7D2-F0BB-4CE4-BA11-CDC4DFB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66CB-4746-4A67-92DF-3E8C6091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5C8A-2B4A-436F-AD8F-A9BC4521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AB61-977A-46FF-9243-6F4DA002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8B9D-3916-4C91-9697-B52189A1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585-3B44-4604-BA0A-24B3805E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9EC-BFA0-45B0-8AE9-B1F6F1BC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F30-C719-4D9B-9956-A79E447F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F9D-CCF7-4B05-ADCA-ADD1336B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BE9-5011-4C9B-8F75-B7EC70FA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250-99DF-41F2-B964-30730945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041-F43D-4196-8DAA-B6296DB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B059-7CCE-496E-AC57-94FC64B61381}" type="slidenum"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5364-8573-4A5C-8B08-6ED7C227977B}" type="slidenum"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.ec.gc.ca/greatlakes/default.asp?lang=En&amp;n=5CAD4495-1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on.ec.gc.ca/greatlakes/default.asp?lang=En&amp;n=5CAD4495-1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on.ec.gc.ca/greatlakes/default.asp?lang=En&amp;n=5CAD4495-1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on.ec.gc.ca/greatlakes/default.asp?lang=En&amp;n=5CAD4495-1" TargetMode="External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hyperlink" Target="http://www.on.ec.gc.ca/greatlakes/default.asp?lang=En&amp;n=5CAD4495-1" TargetMode="External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Gavin_Plant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en.wikipedia.org/wiki/Image:Origins.gif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[Picture of Toronto]"/>
          <p:cNvPicPr/>
          <p:nvPr/>
        </p:nvPicPr>
        <p:blipFill>
          <a:blip r:embed="rId1"/>
          <a:stretch/>
        </p:blipFill>
        <p:spPr>
          <a:xfrm>
            <a:off x="838080" y="609480"/>
            <a:ext cx="4864320" cy="37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308592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29200" y="327672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MIXEDWOOD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Toro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Air Pollu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Smo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5877000" cy="391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MIXEDWOOD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3029040" cy="232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4648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Landfi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2147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Garb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438280" y="4495680"/>
            <a:ext cx="3009960" cy="2028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553080" y="685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Toronto exporting waste to Michig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352680" y="685800"/>
            <a:ext cx="5638320" cy="2457000"/>
            <a:chOff x="3352680" y="685800"/>
            <a:chExt cx="5638320" cy="2457000"/>
          </a:xfrm>
        </p:grpSpPr>
        <p:pic>
          <p:nvPicPr>
            <p:cNvPr id="104" name="" descr="View Lake Michigan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352680" y="2129400"/>
              <a:ext cx="2310840" cy="101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3352680" y="685800"/>
              <a:ext cx="5638320" cy="2456280"/>
              <a:chOff x="3352680" y="685800"/>
              <a:chExt cx="5638320" cy="2456280"/>
            </a:xfrm>
          </p:grpSpPr>
          <p:pic>
            <p:nvPicPr>
              <p:cNvPr id="106" name="" descr="View Lake Superior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3352680" y="685800"/>
                <a:ext cx="2310840" cy="14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View Lake Huron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5261760" y="685800"/>
                <a:ext cx="1733400" cy="14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View Lake Ontario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920280" y="685800"/>
                <a:ext cx="2070720" cy="14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r2c2"/>
              <p:cNvPicPr/>
              <p:nvPr/>
            </p:nvPicPr>
            <p:blipFill>
              <a:blip r:embed="rId9"/>
              <a:stretch/>
            </p:blipFill>
            <p:spPr>
              <a:xfrm>
                <a:off x="5261760" y="2129040"/>
                <a:ext cx="1733400" cy="101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View Lake Erie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6920280" y="2129040"/>
                <a:ext cx="2070720" cy="1013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MIXEDWOOD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380880" y="1600200"/>
            <a:ext cx="2971800" cy="166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rcRect l="3860" t="4750" r="74282" b="52527"/>
          <a:stretch/>
        </p:blipFill>
        <p:spPr>
          <a:xfrm>
            <a:off x="1600200" y="3886200"/>
            <a:ext cx="1774800" cy="2819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rcRect l="61738" t="3164" r="3536" b="68356"/>
          <a:stretch/>
        </p:blipFill>
        <p:spPr>
          <a:xfrm>
            <a:off x="5638680" y="403848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71500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Water Pol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ew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5"/>
          <a:stretch/>
        </p:blipFill>
        <p:spPr>
          <a:xfrm>
            <a:off x="3505320" y="36576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The coal-fired Gavin power plant in Cheshire, Oh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447920"/>
            <a:ext cx="3295440" cy="2471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Processes involved in acid deposition (note that only SO2 and NOx play a significant role in acid rain)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2590920"/>
            <a:ext cx="495756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663300"/>
                </a:solidFill>
                <a:latin typeface="Arial"/>
              </a:rPr>
              <a:t>BOREAL SHIELD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Power Pl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Acid R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990720"/>
            <a:ext cx="3124440" cy="8380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Toxic Chemic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095560" cy="221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251080" cy="167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Photo of Irving Pulp and Paper"/>
          <p:cNvPicPr/>
          <p:nvPr/>
        </p:nvPicPr>
        <p:blipFill>
          <a:blip r:embed="rId3"/>
          <a:stretch/>
        </p:blipFill>
        <p:spPr>
          <a:xfrm>
            <a:off x="2057400" y="1523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663300"/>
                </a:solidFill>
                <a:latin typeface="Arial"/>
              </a:rPr>
              <a:t>BOREAL SHIELD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06668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066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Pulp and Paper M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1523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Air Pol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362320"/>
            <a:ext cx="2286000" cy="1143000"/>
          </a:xfrm>
          <a:prstGeom prst="flowChartMagneticTap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Water Pol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290760" cy="3290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4191120" cy="3141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logging truck"/>
          <p:cNvPicPr/>
          <p:nvPr/>
        </p:nvPicPr>
        <p:blipFill>
          <a:blip r:embed="rId3"/>
          <a:stretch/>
        </p:blipFill>
        <p:spPr>
          <a:xfrm>
            <a:off x="4724280" y="304920"/>
            <a:ext cx="1886040" cy="260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663300"/>
                </a:solidFill>
                <a:latin typeface="Arial"/>
              </a:rPr>
              <a:t>BOREAL SHIELD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Clear-cut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533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Forest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502920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Limited number of tree species being replan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5638680"/>
            <a:ext cx="3276720" cy="1067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Biodiversity Decrea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My brother Pete bringing in a big one."/>
          <p:cNvPicPr/>
          <p:nvPr/>
        </p:nvPicPr>
        <p:blipFill>
          <a:blip r:embed="rId1"/>
          <a:stretch/>
        </p:blipFill>
        <p:spPr>
          <a:xfrm>
            <a:off x="609480" y="1676520"/>
            <a:ext cx="2511720" cy="2173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242892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PACIFIC MARITIME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almon Fis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owl"/>
          <p:cNvPicPr/>
          <p:nvPr/>
        </p:nvPicPr>
        <p:blipFill>
          <a:blip r:embed="rId3"/>
          <a:stretch/>
        </p:blipFill>
        <p:spPr>
          <a:xfrm>
            <a:off x="7391520" y="838080"/>
            <a:ext cx="1096920" cy="1762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809880" y="18288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Ontario's largest beech tree. Photo by Molly Crealock"/>
          <p:cNvPicPr/>
          <p:nvPr/>
        </p:nvPicPr>
        <p:blipFill>
          <a:blip r:embed="rId5"/>
          <a:stretch/>
        </p:blipFill>
        <p:spPr>
          <a:xfrm>
            <a:off x="6453360" y="3048120"/>
            <a:ext cx="2238120" cy="3352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438280" y="838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Black"/>
              </a:rPr>
              <a:t>Natural Re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4343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ld-growth Fore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5791320"/>
            <a:ext cx="3276360" cy="761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Defores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791320"/>
            <a:ext cx="3276720" cy="8380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ver Fis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76720" y="49528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4032000" cy="268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6600"/>
                </a:solidFill>
                <a:latin typeface="Arial"/>
              </a:rPr>
              <a:t>TAIGA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Pipe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484440" cy="4238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257800" y="1219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Natural G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2898" t="2102" r="1453" b="1446"/>
          <a:stretch/>
        </p:blipFill>
        <p:spPr>
          <a:xfrm>
            <a:off x="380880" y="1066680"/>
            <a:ext cx="5029200" cy="3505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3810240" cy="235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6600"/>
                </a:solidFill>
                <a:latin typeface="Arial"/>
              </a:rPr>
              <a:t>TAIGA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Mackenzie Ri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762120"/>
            <a:ext cx="5105520" cy="1600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Some Dene People oppo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the pipe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20:21:49Z</dcterms:created>
  <dc:creator>COE Master</dc:creator>
  <dc:description/>
  <dc:language>en-US</dc:language>
  <cp:lastModifiedBy>Customer</cp:lastModifiedBy>
  <dcterms:modified xsi:type="dcterms:W3CDTF">2010-11-01T17:29:30Z</dcterms:modified>
  <cp:revision>46</cp:revision>
  <dc:subject/>
  <dc:title>Slide 1</dc:title>
</cp:coreProperties>
</file>